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91B-C5C6-43AB-AEAE-040E3356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D69-D37E-4138-9A09-A79C8B76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376-7E89-4220-8CAF-D2E65FF7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023-6997-4A54-BA6F-8B6BFC25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D7BE-CEBA-4FDB-8747-B3BC43C9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CB51-8B1D-4504-A903-2DBD174F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B789-9436-49AE-966B-29897A99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E5ED-00FA-4E1F-B28B-813A8362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7084-F556-4043-A375-24F4B36E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4764-C5BD-4D07-966E-3637EDD3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EE71-E336-48FA-8529-21DD64E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B8E-39AA-40B7-9594-CFEB62BF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2F82-8F9B-4315-AF77-F5B801B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5049-0354-4888-A023-0C6C407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4028-B364-4994-8BA6-0106A49A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9677-A277-4070-AD21-830F13DA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BBA8-9EE6-4363-998C-798581E6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622-F6D7-4463-9BB6-D38A0983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6B7-C998-442E-A60C-5AD4B00B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AAD-6950-49CB-ACBB-2553B54D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316-6819-4FE1-BF7A-A79C8421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8AA-5800-4ED9-9419-664779A7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ECA-0E76-4C14-B290-B10C8136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3EE-F2BF-42E4-9BA0-8E4555D3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A3BB-16D6-4AD5-8C84-3E22CDB09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9800" y="1461960"/>
            <a:ext cx="16903800" cy="10794600"/>
            <a:chOff x="-7759800" y="1461960"/>
            <a:chExt cx="1690380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9800" y="146196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5"/>
                  </a:moveTo>
                  <a:arcTo wR="10800" hR="10800" stAng="-4763526" swAng="4763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5"/>
                  </a:moveTo>
                  <a:arcTo wR="10800" hR="10800" stAng="-4763526" swAng="476352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09C6-7843-4134-A728-832B39DCD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837720"/>
            <a:ext cx="903600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cc66"/>
                </a:solidFill>
                <a:latin typeface="Times New Roman"/>
              </a:rPr>
              <a:t>Техника оценивания реальных опционов на примере </a:t>
            </a:r>
            <a:br>
              <a:rPr sz="2700"/>
            </a:br>
            <a:r>
              <a:rPr b="0" i="1" lang="en-US" sz="2700" spc="-1" strike="noStrike">
                <a:solidFill>
                  <a:srgbClr val="ffcc66"/>
                </a:solidFill>
                <a:latin typeface="Times New Roman"/>
              </a:rPr>
              <a:t>принятия стратегического решения о выборе времени строительства завода</a:t>
            </a:r>
            <a:endParaRPr b="0" lang="en-US" sz="27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00240" y="56383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ектная работа студента 2-ого курс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агистратуры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2002 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Анализ затрат на строительство завода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Основной фактор - стоимость стройматериалов. (За последний год идет устойчивое повышение их стоимости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895480"/>
            <a:ext cx="70866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Основная причина  -  порядка 40% стоимости стройматериалов составляют транспортные расходы и именно их удорожание обуславливает повышение цен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495680"/>
            <a:ext cx="7467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Второй немаловажный фактор – рост цен на бензин в ближайшем год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гноз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Аналитический отдел компании Merloni приходит к выводу, что в следующем году существует большая вероятность роста удельных затрат на строительство по крайней мере на 10%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Постановка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задачи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Принятие стратегического решения о выборе времени строительства завода по производству теплообменного оборудования на территории завода ОАО «Кирпичный завод» Ленинградской области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9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352680"/>
            <a:ext cx="77724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Компания для реализации проекта собирается взять кредит в Европейском банке реконструкции и развития. Срок строительства завода составляет 1 календарный г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Финансовый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анализ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02560" cy="33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едпосылки: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Существует большая вероятность, что цены на аналогичное уже существующее оборудование вырастут на 15%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Существует неопределенность относительно того, вырастут ли за год затраты на предполагаемой строительство завод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К 2004 году не ожидается появление каких-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либо серьезных изменений в составе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участников конкурентной борьбы или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оявления более технологичного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обору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886200"/>
            <a:ext cx="79246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)    Предполагается, что при захвате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ланируемой 7% доли рынка компания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сможет продавать оборудование по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сложившимся к тому времени ценам и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сможет реализовать заложенные пла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Исходные данные для анализа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Предполагаемые затраты на строительство завода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З0: = $ 5000 тыс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З1: = $ 5500 тыс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7086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Предполагаемый объем продаж в ближайшие 2 года в среднем за год будет составлять 367 ш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114800"/>
            <a:ext cx="701028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Среднестатистическая стоимость оборудования (для периодов 0 и 1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Ц0: = $ 15 ты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Ц1: = $ 17 ты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Соответственно выручка за каждый период состави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Ц0: =~ $ 5500 ты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Ц1: =~ $ 6240 ты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124080"/>
            <a:ext cx="77724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ероятности перех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 - вероятность того, что затраты возрастут до З1, составляет 0,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 - вероятность того, что цены возрастут до Ц1, составляет 0,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572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Ставка процента по кредиту составляет 11% (соответствует ставке кредита Европейского банка реконструкции и развития) и выдается на сумму порядка $5 м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Возможные варианты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осуществления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инвестиционного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проекта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  Компания может начать строительство завода немедленно (2003 год) и одновременно начать продавать оборудование (ввозя его из-за границы с другого своего завода в Германии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581280"/>
            <a:ext cx="80010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Можно начать строительство опять же немедленно и к моменту окончания строительства реализовывать оборудо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800600"/>
            <a:ext cx="8305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Компания может отложить строительство на год, пока она не получит более четкий анализ рынка и пока не прояснится ситуация с ценами на аналогичное уже существующее на рынке оборудов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Возможные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альтернативы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изменения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цен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затрат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,5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З0 = $5000 тыс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Затрат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,5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З1 = $5500 тыс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,6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Ц0 = $ 5500 тыс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Цен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,4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Ц1 = $ 6240 тыс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28800" y="2666520"/>
            <a:ext cx="190512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048120"/>
            <a:ext cx="190512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752480" y="4191120"/>
            <a:ext cx="19814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648320"/>
            <a:ext cx="198144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Дерево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возможных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альтернатив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342900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З0,Ц0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2286000"/>
            <a:ext cx="25909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З1,Ц0 – Не строи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3200400"/>
            <a:ext cx="25909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З1,Ц1 – Строи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4038480"/>
            <a:ext cx="25909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З0,Ц0 – Строи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800600"/>
            <a:ext cx="25909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З0,Ц1 – Строи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28800" y="2514240"/>
            <a:ext cx="33526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828800" y="3428640"/>
            <a:ext cx="33526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3657600"/>
            <a:ext cx="335268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657600"/>
            <a:ext cx="335268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819520"/>
            <a:ext cx="5335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,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114800"/>
            <a:ext cx="5335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,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2971800"/>
            <a:ext cx="533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4038480"/>
            <a:ext cx="533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Исходные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предпосылки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Компания Merloni TermoSanitari S.р.A. работает на рынке промышленного оборудования. Занимается производством водогрейного оборудования для системы отопления и горячего водоснабже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114800"/>
            <a:ext cx="7924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Отлично себя зарекомендовала себя на рынке теплообменного оборудования сначала в Италии, затем в Европе и с 2003 года планирует начать экспансию на рынок Северо-запада России.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Результаты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проведенных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расчетов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приводят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нас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к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выводу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Если начать строительство завода через год (2004 год), а продавать товары уже сегодня - такой вариант компании не выгоден (ей придется  ввозить товары из-за границы), однако нам ничего не мешает начать строительство сейчас и надеяться, что цены за год вырастут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809880"/>
            <a:ext cx="7924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2)  Если она начнет строительство сегодня, и будет рассчитывать, что цены на теплообменное оборудование не возрастут (останутся на прежнем уровне), то проект не окупит себя, и т.к. NPV в этом случае состави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PV = - 45,045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Если же она начнет строительство сегодня и заложит в бюджет предполагаемый рост цен, то NPV будет равно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PV1 = 221,621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438280"/>
            <a:ext cx="80773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4)  И последний вариант, когда компания откладывает строительство завода на год и при этом предполагает, что цены вырастут, в этом случае она сталкивается с риском того, что у нее сильно возрастут средние удельные затраты на строительство заво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PV2 = 133,917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876920"/>
            <a:ext cx="75438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Стоимость опциона отложить принятие решения на год состави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С = NPV2-NPV1 = -87,703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нализ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чувствительность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Чувствительность к изменению цен на оборудование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Полученные данные можно сделать вывод, что решение выдвинутое маркетинговым отделом компании является устойчивым относительно ожидания величины роста цен на оборудование, поскольку уверенность в небольшом росте цены в будущем уже заставляет ее начать строительство сегодн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95280" y="2514600"/>
            <a:ext cx="6096240" cy="1185840"/>
            <a:chOff x="1295280" y="2514600"/>
            <a:chExt cx="6096240" cy="1185840"/>
          </a:xfrm>
        </p:grpSpPr>
        <p:sp>
          <p:nvSpPr>
            <p:cNvPr id="164" name=""/>
            <p:cNvSpPr/>
            <p:nvPr/>
          </p:nvSpPr>
          <p:spPr>
            <a:xfrm>
              <a:off x="6519960" y="33051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33,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49840" y="330516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5,8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78280" y="33051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7,8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08520" y="3305160"/>
              <a:ext cx="869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10,5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36960" y="33051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58,2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66840" y="330516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106,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33051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PV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19960" y="29098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2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49840" y="290988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78280" y="29098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4,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08520" y="2909880"/>
              <a:ext cx="869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1,6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6960" y="29098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,2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66840" y="290988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4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29098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PV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19960" y="251460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2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49840" y="251460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09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78280" y="251460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94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08520" y="2514600"/>
              <a:ext cx="869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79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36960" y="251460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64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66840" y="251460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251460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Ц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95280" y="2514600"/>
              <a:ext cx="6096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2909880"/>
              <a:ext cx="609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5280" y="3305160"/>
              <a:ext cx="609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3700440"/>
              <a:ext cx="6096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95280" y="2514600"/>
              <a:ext cx="0" cy="11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66840" y="251460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36960" y="251460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08520" y="251460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78280" y="251460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49840" y="251460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19960" y="251460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2514600"/>
              <a:ext cx="0" cy="11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Чувствительность к изменению сегодняшних затрат на строительство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Принятое решение достаточно чувствительно к начальным затратам на строительство, и уже увеличение начальных затрат на $300 тыс. вынуждает ее отложить строительство на год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95280" y="2895480"/>
            <a:ext cx="6096240" cy="1185840"/>
            <a:chOff x="1295280" y="2895480"/>
            <a:chExt cx="6096240" cy="1185840"/>
          </a:xfrm>
        </p:grpSpPr>
        <p:sp>
          <p:nvSpPr>
            <p:cNvPr id="199" name=""/>
            <p:cNvSpPr/>
            <p:nvPr/>
          </p:nvSpPr>
          <p:spPr>
            <a:xfrm>
              <a:off x="6519960" y="368604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3,8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368604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1,8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8280" y="368604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9,8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08520" y="3686040"/>
              <a:ext cx="869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7,8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6960" y="368604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5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66840" y="368604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33,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5280" y="368604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PV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19960" y="32907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278,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49840" y="329076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178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8280" y="32907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78,3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08520" y="3290760"/>
              <a:ext cx="869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1,6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6960" y="32907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6840" y="329076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2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32907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PV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9960" y="28954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49840" y="289548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4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78280" y="28954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8520" y="2895480"/>
              <a:ext cx="869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2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6960" y="28954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66840" y="289548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5280" y="28954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З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2895480"/>
              <a:ext cx="6096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3290760"/>
              <a:ext cx="609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686040"/>
              <a:ext cx="609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95280" y="4081320"/>
              <a:ext cx="6096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95280" y="2895480"/>
              <a:ext cx="0" cy="11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66840" y="28954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36960" y="28954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08520" y="28954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78280" y="28954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49840" y="28954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19960" y="28954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91520" y="2895480"/>
              <a:ext cx="0" cy="11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Чувствительность к изменению процентной ставки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Принятое решение является довольно чувствительным к изменению процентной ставки. Здесь можно заметить, что очень важно то обстоятельство, где оно берет кредит под строительство - в Европе или в Росс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752480" y="1981080"/>
            <a:ext cx="5224680" cy="1185840"/>
            <a:chOff x="1752480" y="1981080"/>
            <a:chExt cx="5224680" cy="1185840"/>
          </a:xfrm>
        </p:grpSpPr>
        <p:sp>
          <p:nvSpPr>
            <p:cNvPr id="234" name=""/>
            <p:cNvSpPr/>
            <p:nvPr/>
          </p:nvSpPr>
          <p:spPr>
            <a:xfrm>
              <a:off x="6107040" y="277164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-44,3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5480" y="277164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8,4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65720" y="2771640"/>
              <a:ext cx="869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8,4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94160" y="277164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33,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4040" y="277164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95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2480" y="277164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PV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07040" y="237636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-249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5480" y="23763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-46,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65720" y="2376360"/>
              <a:ext cx="869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4,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94160" y="23763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2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24040" y="237636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6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52480" y="237636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PV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07040" y="198108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,2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35480" y="19810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,1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65720" y="1981080"/>
              <a:ext cx="869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,1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94160" y="19810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,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24040" y="1981080"/>
              <a:ext cx="870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,0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1981080"/>
              <a:ext cx="871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2480" y="1981080"/>
              <a:ext cx="5224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2480" y="2376360"/>
              <a:ext cx="522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52480" y="2771640"/>
              <a:ext cx="522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52480" y="3166920"/>
              <a:ext cx="5224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2480" y="1981080"/>
              <a:ext cx="0" cy="11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24040" y="19810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94160" y="19810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65720" y="19810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35480" y="19810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07040" y="1981080"/>
              <a:ext cx="0" cy="11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77160" y="1981080"/>
              <a:ext cx="0" cy="11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Итог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В результате проведенного анализа на чувствительность, мы можем сделать важный вывод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Решение о строительстве завода в 2003 году в надежде на будущий рост цен является чувствительным по отношению к изменению основных факторов, могущих повлиять на окончательное решение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Маркетинговый анализ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роительство завода по производству электрических водонагревателей марки Ariston в Ленинградской области в конце 2003 год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95480"/>
            <a:ext cx="76201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Территория промышленной зоны «Кирпичный завод» Всеволожского района на участке площадью 5 г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191120"/>
            <a:ext cx="731520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Мощность производств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-  первый этап   400 ед. продукции в г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-  перспектива до 1000 е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Рынок сбыта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Первый этап - Северо-запад и Центральная част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Следующий этап – остальные регионы РФ, страны СНГ, Прибалтика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343400"/>
            <a:ext cx="80773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Инвестици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на первом этапе - $ 5 мл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в итоге - порядка $ 20 млн.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Анализ рынка теплообменного оборудования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3840" cy="37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высокие перспективы растущего российского рынк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за прошлый год отечественный рынок промышленного теплообменного оборудования вырос на 20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на импорт приходится около восьмой части приобретаемого оборудования - ведущими поставщиками здесь являются Германия, Италия, США, Китай и Канада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"Главная проблема российских российского рынка теплообменников – это плохая платежеспособность потребителей"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743200"/>
            <a:ext cx="762012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сновные потребит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едставители муниципальных образований ЖКХ (ТЭЦ, Тепловые сети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омышленных предприятий имеющих собственные котельн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57200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Состояние основных фондов организаций находятся довольно в плачевном состоянии  (модернизация не происходила по 10-15 лет). В результате они просто вынуждены изыскивать средства на заме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1447920"/>
            <a:ext cx="7086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Теплообменное оборудован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Газовые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проточные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водонагревате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Электрические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проточные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водонагревате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Емкостные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водонагревате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Ценовая политика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в 2003 году прогнозируется существенный рост це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(за последний 2002 год цены на рынке в среднем выросли на 7-12%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Основная причина -  рост цен на энергоносители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114800"/>
            <a:ext cx="75438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В 2003 году уже есть официальные цифры, предполагается рост цен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на газ на 30%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железнодорожные перевозки на 12%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и на электроэнергию 14%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огноз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Ведущие специалисты предполагают, что цены на теплообменное оборудование могут вырасти в среднем на 15% и такая же тенденция к повышению намечена на ближайшие 2 год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1-01T08:55:42Z</dcterms:modified>
  <cp:revision>22</cp:revision>
  <dc:subject/>
  <dc:title>PowerPoint Presentation</dc:title>
</cp:coreProperties>
</file>